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3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834B31-753D-4332-AA8C-19504DC78BE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4F8-4732-4699-98D5-C28AB822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A16-693D-4835-BB87-C0E48E8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F4F-602C-486F-9B1A-F141B9AA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378-4CEE-40B2-9865-AF7FC97B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DB9-3890-4F17-B6D8-2CF428E3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8C9-4F02-4022-8BCC-ED95E8BB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561-C66A-4690-902E-859C8E3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916-A83A-4890-9EFB-32DB5DDC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A03-6156-4549-BA33-3F393BD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3DE-BDC5-45E5-86D3-DD000D4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9BC-96AE-4E11-88C1-A6D6156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64A-FCF5-4CA8-9798-B1092672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6577-D066-4F6C-A7DE-84A8C0DF3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E64-0878-4404-9874-1DBA8DA48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F9FD-5664-456C-AB45-D9081E4CA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71640" y="1916280"/>
            <a:ext cx="713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UNA VALIGIA PER BRUXEL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7375e"/>
                </a:solidFill>
                <a:latin typeface="Comic Sans MS"/>
              </a:rPr>
              <a:t>Rete Stellini, Percoto, Copernico, Zanon</a:t>
            </a:r>
            <a:br>
              <a:rPr sz="2400"/>
            </a:br>
            <a:br>
              <a:rPr sz="2000"/>
            </a:b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UNITÀ DI APPRENDIM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Archivi fotografici - rosso, valigia, &#10;città, dentro. &#10;fotosearch - cerca &#10;archivi fotografici, &#10;foto, illustrazioni, &#10;stampe murali, &#10;immagini e foto &#10;clipart"/>
          <p:cNvPicPr/>
          <p:nvPr/>
        </p:nvPicPr>
        <p:blipFill>
          <a:blip r:embed="rId1"/>
          <a:stretch/>
        </p:blipFill>
        <p:spPr>
          <a:xfrm>
            <a:off x="2987640" y="3141720"/>
            <a:ext cx="3333960" cy="33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ASPETTI  POSITIVI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li alunni han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vorato con impeg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mostrato interesse per il confronto su tematiche attu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radito la possibilità di lavorare in grup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verificato il collegamento esistente fra apprendimento teorico e real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docenti han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rovato efficace e gratificante progettare e condividere il lavoro interdisciplin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1430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Calibri"/>
              </a:rPr>
              <a:t>ASPETTI  CRITICI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f81bd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 è stato agevole gestire i tempi e coordinare le attività interdisciplinari dell’UDA con quelle disciplinar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percorsi curricolari, recuperi, verifich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nno messe a punto tecniche e modalità per la valutazione delle competenze sia di cittadinanza (lavoro di gruppo) sia degli as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E FINALMENT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4262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SIAMO A BRUXELLE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33BD-50C7-4222-9710-08AE04E8B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MATERIE E SOGGETTI COINVOL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TALIANO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R. Spizzamig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DIRITTO/ECONOMIA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A. Chir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GLESE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G. Locur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FRANCESE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. Cab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SCIENZE NATURALI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G. Castella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SCIENZE UMANE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C. T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6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0000"/>
                </a:solidFill>
                <a:latin typeface="Comic Sans MS"/>
              </a:rPr>
              <a:t>con i 25 alunni della II B del Liceo Economico Sociale “C. Percot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CE33-59CD-4210-8793-B31BBC569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90648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L’Europa è un cantiere che ci appartien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(J. Lenoble, N. Dewandre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3160" y="1773000"/>
            <a:ext cx="820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ollecita motivazione e interesse (c’è da intraprendere un viaggio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redispone i contesti nei quali strutturare l’acquisizione delle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ompetenze di cittadinanza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(progettare, comunicare, collaborare e partecipare, agire in modo autonomo e responsabile, acquisire e interpretare l’informazio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ensibilizza alla cittadinanza europea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Attiva le esperienze per l’acquisizione delle </a:t>
            </a: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competenze degli assi culturali</a:t>
            </a: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 (dei linguaggi, storico-sociale, scientifico-tecnolog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Permette di sperimentare la concretezza degli studi teor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Si oggettiva in prodotti utili e interessanti anche per altri fruito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sellaDiTesto 1"/>
          <p:cNvSpPr/>
          <p:nvPr/>
        </p:nvSpPr>
        <p:spPr>
          <a:xfrm>
            <a:off x="2287800" y="2700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VALORE DELL’UDA</a:t>
            </a:r>
            <a:endParaRPr b="1" lang="en-US" sz="36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18A-97FA-45DE-89C3-AA251A160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1280" y="115920"/>
            <a:ext cx="7669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PRODOTTI ATT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38360" y="5637240"/>
            <a:ext cx="763416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 inserire nella      virtu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egnaposto piè di pagina 1"/>
          <p:cNvSpPr/>
          <p:nvPr/>
        </p:nvSpPr>
        <p:spPr>
          <a:xfrm>
            <a:off x="29876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63" name="CasellaDiTesto 7"/>
          <p:cNvSpPr/>
          <p:nvPr/>
        </p:nvSpPr>
        <p:spPr>
          <a:xfrm>
            <a:off x="661320" y="183204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di gruppo</a:t>
            </a:r>
            <a:endParaRPr b="1" lang="en-US" sz="28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64" name="CasellaDiTesto 11"/>
          <p:cNvSpPr/>
          <p:nvPr/>
        </p:nvSpPr>
        <p:spPr>
          <a:xfrm>
            <a:off x="581400" y="3225960"/>
            <a:ext cx="20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omic Sans MS"/>
              </a:rPr>
              <a:t>individuali</a:t>
            </a:r>
            <a:endParaRPr b="1" lang="en-US" sz="28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65" name="CasellaDiTesto 8"/>
          <p:cNvSpPr/>
          <p:nvPr/>
        </p:nvSpPr>
        <p:spPr>
          <a:xfrm>
            <a:off x="4284720" y="1954080"/>
            <a:ext cx="430056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Glossari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Schede tecniche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Relazioni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Articoli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Presentazioni multimediali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66" name="Freccia a destra 13"/>
          <p:cNvSpPr/>
          <p:nvPr/>
        </p:nvSpPr>
        <p:spPr>
          <a:xfrm>
            <a:off x="258840" y="3348000"/>
            <a:ext cx="352440" cy="2779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67" name="CasellaDiTesto 14"/>
          <p:cNvSpPr/>
          <p:nvPr/>
        </p:nvSpPr>
        <p:spPr>
          <a:xfrm>
            <a:off x="738360" y="4365720"/>
            <a:ext cx="7619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66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 aspetti rilevanti dell’Unione Europea</a:t>
            </a:r>
            <a:endParaRPr b="1" lang="en-US" sz="2800" spc="-1" strike="noStrike">
              <a:solidFill>
                <a:srgbClr val="ff0066"/>
              </a:solidFill>
              <a:latin typeface="Calibri"/>
            </a:endParaRPr>
          </a:p>
        </p:txBody>
      </p:sp>
      <p:pic>
        <p:nvPicPr>
          <p:cNvPr id="68" name="Picture 11" descr="Archivi fotografici - rosso, valigia, &#10;città, dentro. &#10;fotosearch - cerca &#10;archivi fotografici, &#10;foto, illustrazioni, &#10;stampe murali, &#10;immagini e foto &#10;clipart"/>
          <p:cNvPicPr/>
          <p:nvPr/>
        </p:nvPicPr>
        <p:blipFill>
          <a:blip r:embed="rId1"/>
          <a:stretch/>
        </p:blipFill>
        <p:spPr>
          <a:xfrm>
            <a:off x="5003640" y="5516640"/>
            <a:ext cx="648000" cy="64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Freccia in giù 17"/>
          <p:cNvSpPr/>
          <p:nvPr/>
        </p:nvSpPr>
        <p:spPr>
          <a:xfrm rot="16200000">
            <a:off x="2653560" y="2275560"/>
            <a:ext cx="1463760" cy="11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0" name="Freccia a destra 19"/>
          <p:cNvSpPr/>
          <p:nvPr/>
        </p:nvSpPr>
        <p:spPr>
          <a:xfrm>
            <a:off x="258840" y="1954080"/>
            <a:ext cx="352440" cy="2779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1" name="CasellaDiTesto 18"/>
          <p:cNvSpPr/>
          <p:nvPr/>
        </p:nvSpPr>
        <p:spPr>
          <a:xfrm>
            <a:off x="798120" y="6159600"/>
            <a:ext cx="75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www.liceopercoto.ud.it/unavaligiaperbruxelles/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7443-A7B8-464C-9461-B41CAFE88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3" name="Text Box 167"/>
          <p:cNvSpPr/>
          <p:nvPr/>
        </p:nvSpPr>
        <p:spPr>
          <a:xfrm>
            <a:off x="1547640" y="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REALIZZAZIONE</a:t>
            </a:r>
            <a:endParaRPr b="1" lang="en-US" sz="3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4" name="CasellaDiTesto 1"/>
          <p:cNvSpPr/>
          <p:nvPr/>
        </p:nvSpPr>
        <p:spPr>
          <a:xfrm flipH="1">
            <a:off x="942840" y="92232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Tempi </a:t>
            </a: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5" name="CasellaDiTesto 2"/>
          <p:cNvSpPr/>
          <p:nvPr/>
        </p:nvSpPr>
        <p:spPr>
          <a:xfrm>
            <a:off x="3490920" y="604800"/>
            <a:ext cx="496872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6/10 ore circa per disciplina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4 ore di laboratorio sui processi migrator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4 ore di conferenze su aspetti culturali ed economic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5 ore tecnico aula computer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6" name="CasellaDiTesto 6"/>
          <p:cNvSpPr/>
          <p:nvPr/>
        </p:nvSpPr>
        <p:spPr>
          <a:xfrm>
            <a:off x="3490920" y="1573200"/>
            <a:ext cx="540216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Lezioni frontal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Lavori di gruppo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Conferenze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Visione di filmati e materiali iconografic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Schede di autovalutazione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Griglie per la valutazione dei prodotti sulla base di contenuto 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ヒラギノ角ゴ Pro W3"/>
              </a:rPr>
              <a:t> (</a:t>
            </a: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selezione e organizzazione delle informazioni), requisiti tecnici della presentazione, esposizione orale, conoscenza dei contenuti, rispetto dei temp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7" name="CasellaDiTesto 7"/>
          <p:cNvSpPr/>
          <p:nvPr/>
        </p:nvSpPr>
        <p:spPr>
          <a:xfrm flipH="1">
            <a:off x="942120" y="1916280"/>
            <a:ext cx="2046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etodi </a:t>
            </a: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dalità di verifica</a:t>
            </a: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8" name="CasellaDiTesto 8"/>
          <p:cNvSpPr/>
          <p:nvPr/>
        </p:nvSpPr>
        <p:spPr>
          <a:xfrm>
            <a:off x="3490920" y="3654360"/>
            <a:ext cx="496872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Conferenze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Laboratori sulla lettura delle immagin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Interviste in francese a una migrante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Ascolto e comprensione globale e dettagliata di una dichiarazione in inglese al presidente della Commissione Europea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omic Sans MS"/>
              </a:rPr>
              <a:t>Viaggio a Bruxelles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9" name="Rettangolo 3"/>
          <p:cNvSpPr/>
          <p:nvPr/>
        </p:nvSpPr>
        <p:spPr>
          <a:xfrm>
            <a:off x="826920" y="1557360"/>
            <a:ext cx="8066160" cy="1974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80" name="Rettangolo 10"/>
          <p:cNvSpPr/>
          <p:nvPr/>
        </p:nvSpPr>
        <p:spPr>
          <a:xfrm>
            <a:off x="826920" y="584280"/>
            <a:ext cx="8066160" cy="90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81" name="Rettangolo 11"/>
          <p:cNvSpPr/>
          <p:nvPr/>
        </p:nvSpPr>
        <p:spPr>
          <a:xfrm>
            <a:off x="822240" y="3624120"/>
            <a:ext cx="8064720" cy="2194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82" name="CasellaDiTesto 12"/>
          <p:cNvSpPr/>
          <p:nvPr/>
        </p:nvSpPr>
        <p:spPr>
          <a:xfrm flipH="1">
            <a:off x="1042200" y="4221000"/>
            <a:ext cx="204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Esperienze attivate </a:t>
            </a: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83" name="CasellaDiTesto 13"/>
          <p:cNvSpPr/>
          <p:nvPr/>
        </p:nvSpPr>
        <p:spPr>
          <a:xfrm flipH="1">
            <a:off x="1042200" y="620712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Risorse esterne</a:t>
            </a:r>
            <a:endParaRPr b="1" lang="en-US" sz="14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84" name="CasellaDiTesto 16"/>
          <p:cNvSpPr/>
          <p:nvPr/>
        </p:nvSpPr>
        <p:spPr>
          <a:xfrm>
            <a:off x="3503520" y="5945040"/>
            <a:ext cx="5184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Esperti su temi relativi alle migrazioni (progetto Radiomigranti)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Esperti temi europei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2060"/>
                </a:solidFill>
                <a:latin typeface="Comic Sans MS"/>
              </a:rPr>
              <a:t>Testimone di esperienza migratoria</a:t>
            </a:r>
            <a:endParaRPr b="1" lang="en-US" sz="12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85" name="Rettangolo 17"/>
          <p:cNvSpPr/>
          <p:nvPr/>
        </p:nvSpPr>
        <p:spPr>
          <a:xfrm>
            <a:off x="826920" y="5923080"/>
            <a:ext cx="8066160" cy="852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468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PROCESSO e PRODOTT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63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Calibri"/>
              </a:rPr>
              <a:t>MODALITÀ DI LAVO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ttività individu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 algn="just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ascolto, lettura e comprensione di testi e di materiali iconografic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 algn="just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stesura di t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attività di gruppo</a:t>
            </a: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 algn="just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analisi, confronto, discussione e interpretazione condivisa di testi e materiali iconograf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 algn="just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costruzione di power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-84240" algn="just">
              <a:spcBef>
                <a:spcPts val="6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Calibri"/>
              </a:rPr>
              <a:t>redazione di arti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egnaposto piè di pagina 1"/>
          <p:cNvSpPr/>
          <p:nvPr/>
        </p:nvSpPr>
        <p:spPr>
          <a:xfrm>
            <a:off x="29876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VALUTAZIONE DEI PRODOT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57360"/>
            <a:ext cx="842472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INDICATORI</a:t>
            </a:r>
            <a:endParaRPr b="1" lang="en-US" sz="28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spcBef>
                <a:spcPts val="15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contenuto (selezione e organizzazione delle informazioni)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requisiti tecnici della presentazione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esposizione orale 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conoscenza dei contenuti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rispetto dei temp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04000" y="3068640"/>
            <a:ext cx="16192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VALUTAZIONE DISCIPLIN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55736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alibri"/>
              </a:rPr>
              <a:t>CRITERI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rispetto della tipologia testuale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sviluppo aspetti richiesti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utilizzo informazioni (corretta individuazione informazioni funzionali alla stesura degli elaborati)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coerenza e ordine (informazioni non contraddittorie e collegate in successione logica)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correttezza ortografia, punteggiatura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morfosintassi (verbi, pronomi, connettivi, concordanze, costruzione del periodo …)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  <a:p>
            <a:pPr marL="263520" indent="-263520"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alibri"/>
              </a:rPr>
              <a:t>lessico/registro</a:t>
            </a:r>
            <a:endParaRPr b="1" lang="en-US" sz="2400" spc="-1" strike="noStrike">
              <a:solidFill>
                <a:srgbClr val="ff006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VALUTAZIONE DELL’ESPERI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amo arrivat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[a Bruxelles]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ià con un bagaglio di conoscenze che ci ha permesso di alzare il livello dei dibattiti e di individuare da soli elementi, argomenti, informazioni, nozioni, ecc., utili alla nostra esperienza e cultura. Inoltre, avendo già un’infarinatura dell’argomento, abbiamo potuto approfondire e parlare dei problemi attu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Letizia, II 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5:15:06Z</dcterms:created>
  <dc:creator>Gabri</dc:creator>
  <dc:description/>
  <dc:language>en-US</dc:language>
  <cp:lastModifiedBy>Chiara Tempo</cp:lastModifiedBy>
  <dcterms:modified xsi:type="dcterms:W3CDTF">2012-09-26T22:51:27Z</dcterms:modified>
  <cp:revision>319</cp:revision>
  <dc:subject/>
  <dc:title>Scuole coinvolte</dc:title>
</cp:coreProperties>
</file>